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BFB-6180-4CEE-B4B3-CECEF28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96A-59B0-4B79-988D-C42800B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63B-C457-49DF-AAA3-5C67CF9D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181-B362-49B4-9D86-1C09740F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E8D-B1E9-4FF0-A07A-AB530468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A30-3086-4CAF-9F88-4DDD08F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D3B-521C-48CD-BBE4-B2E38A3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AD4-C7E1-4D5A-9105-51775F94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1E6-B889-447E-A601-E18C642B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330-D2C3-4010-B72F-1779ECB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EC4-19C6-4B41-8D68-67037B2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D58-D488-48C1-9863-C7DB3F9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BA2-6DDB-45C6-A198-F887DB2AE7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200" y="6202440"/>
            <a:ext cx="40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ofteaching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CDE-1B28-4D80-81FE-4D01C84790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87D-C1CB-4094-9224-601B10BAFB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FD4-D70C-4EAD-A5BD-FDD8345A06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0747-76FE-4765-9D4B-AEDBA73FEC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13C-2621-45EB-86AC-C1C163707E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tha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 many squares fit inside that shape (if measured in feet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feet…if meters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18A3-AE45-46D4-9F12-D399083585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46C3-AD98-47C9-982B-06F7C61E34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520-856C-48A7-AF19-90E313BE69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6510-469D-4342-BEA2-8439E1371F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3C4-A85E-4D71-913B-9DCB074503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F88-5CD9-48E2-A376-4CD49E5587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405-10B6-4227-B7B3-A6BBCB231E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½ because ½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DF4E-9F05-4DFC-A428-11100AF97A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3CC-4543-4904-A510-563DD8440E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F569-6EB4-453A-96CA-0979C695F3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101-2183-4473-98A0-016601F998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68B-4F38-4811-A383-020FF07BC5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1D2-4320-44F1-862F-AF019EE8E6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21FB-82B6-45DC-B5F8-E70CF4374C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ach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line segment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enc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FB1-DEA7-4170-B740-0868610EB6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686-DD88-402D-BEC8-B9AEC1A5EE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5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438-A65F-4F3E-97FA-36C6806C96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2AAD-15E4-4FF3-8B4A-8AA20A5C65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a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96EB-B40B-40A4-9727-E69D1DF8DD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bethany.jackson</cp:lastModifiedBy>
  <dcterms:modified xsi:type="dcterms:W3CDTF">2012-03-10T17:22:17Z</dcterms:modified>
  <cp:revision>16</cp:revision>
  <dc:subject/>
  <dc:title>Formulas for Geometry</dc:title>
</cp:coreProperties>
</file>